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FCE-F13F-419B-9B3D-2DEFE58C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3D4-6662-4C06-94A4-D522576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073-A1F6-4885-BD2F-6C571FE7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131-868C-4729-8834-AD04BCD1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D71-1432-4CEC-BF1B-7F77630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967-8746-4A20-8C18-434E4E7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CEE-08D9-426B-80C4-89538E6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BCE-3DB0-44F1-BEFA-F53A797C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14F-AF58-47D4-AE50-E5B9314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4C6-7556-462B-9010-D38181B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0A4-6005-4EAC-BDC7-4A3F23B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D0B-956E-4874-AB70-3906C4E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CDCF0-B438-48C7-A070-D9C4838AD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9C851-A227-464A-964F-0F5DA04A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th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53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80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.5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violent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9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97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8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86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4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63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es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.87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violent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29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170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sl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19.6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pale yel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32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sl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01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enish yel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om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Liqu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3.12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7.2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reddish-brow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4.9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unknow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13.5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bluish-bl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2.3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6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Intermedi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41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2.10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55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bl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1.3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27.5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7.3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23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5.32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6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Fair to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3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l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5.904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7.3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5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8.96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803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pp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 or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1.8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03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0.5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61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ryl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8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5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28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57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7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845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9.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064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o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3.6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strong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71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7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slow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651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018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7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2.5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76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090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4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37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56.6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178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89.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585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19.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8:15:42Z</dcterms:created>
  <dc:creator>Noelle Van Ee</dc:creator>
  <dc:description/>
  <dc:language>en-US</dc:language>
  <cp:lastModifiedBy>Noelle Van Ee</cp:lastModifiedBy>
  <cp:lastPrinted>2011-10-26T21:25:20Z</cp:lastPrinted>
  <dcterms:modified xsi:type="dcterms:W3CDTF">2011-10-26T21:25:36Z</dcterms:modified>
  <cp:revision>9</cp:revision>
  <dc:subject/>
  <dc:title>Slide 1</dc:title>
</cp:coreProperties>
</file>